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DEAD-16A8-4083-A5FC-01704A843E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E74D-ED62-4E7E-8E19-8BFAA516E7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3995-652A-46EB-AFB9-9D1F45559A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D32E-7318-4B34-A89F-2C1FB8592B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5448-8589-4CF4-BEDE-A60F6532DF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0696-3AC9-4D04-B9F9-0EEE520689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02D3-AA80-4ADB-9DF9-149ACB00AD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9AE8-5E99-4DC7-98D0-34D5FCE5E7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E3A0-AD3D-4F37-B388-A2958344B1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F2D7-4254-4140-AA98-879C516761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13BC-F336-4C0A-A10D-301A5D79A8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3822-2112-4673-8CC1-3120337CBF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440A-BCDF-4E53-91B1-1D4F500408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6E07-7867-4540-AE8B-AA1FA6F7AD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C33D-A088-429D-A871-00EB738881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8BD-DD49-4A1F-9A39-57D14FB0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650-9392-4C69-B54B-2E7E18E3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D76C-02EA-4F33-A2A4-A3F58A61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3884-D094-461C-97B1-8F7C6F92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2C24-A94B-442C-915F-6E8F4CA4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F2C5-AD83-4112-AE5A-6E1AAB55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1578-DAE7-4089-A88B-789F4481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931C-158A-4B1F-BB46-480724BA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D861-98FA-4474-870B-80F25076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94B6-A858-4B66-AEAC-E5BBFC9E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6DFE-6452-4466-8813-C42E9FDF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C32-7BB9-4955-A580-28C1BB44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F42D-4DFC-46A0-B4BE-841372D9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AB3B-636B-4D34-8EE7-C8DD5027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E76B-8A53-4D07-9785-E36597ED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467E-5064-49F1-865C-4C9A46E0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19AA-3553-41BA-8647-D02403C4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AE4AE-15FD-4E3D-B10E-4F724FB9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2E513-B46D-4D65-8027-5AF9031C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F9F42-7BD2-4430-8AF8-E5AD497D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D3503-A50B-4D8E-9C47-5DF37061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288F4-31B9-4346-AB59-5A157649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616-D4EC-48E8-A4B6-BCCA2305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7755-CFAF-48DB-914C-D6A9DA99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D0FEE-23D9-41D8-BE7C-48B51E2C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AD85D-D938-464D-9663-E8F41111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9BF1A-6188-4310-9B29-9AF35B99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EB24D-2162-426A-B9D5-8AA80A03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DAF4F-2839-4F29-B953-14CE6E5D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071D3-CF36-45E1-97BB-8913F3FA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3242C-939B-4D26-8754-1FE20B4B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048E9-6716-414E-A229-322DF6B7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EB062-0F16-400B-8754-17F254D3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D03-5A32-4F60-9877-915C3286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22BB0-E163-4A15-83EC-7AF352F0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0FFC7-646C-447C-A7BE-09124A40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D1A56-5F9D-43B4-AB8D-E31B85EA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9D98D-B02E-4B66-9777-82952DFA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00BD0-0B00-43F9-854C-1E872827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520C5-8652-4A25-8691-78BD0BE9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1CFA6-D16C-4A27-867C-53A1DE69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C1602-A380-4F5E-A32C-5797EF67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92524-5073-41B7-ADEB-1C979164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5B5-C63C-480B-BDA4-E4098322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23A-2CD1-4604-933D-B1107E1F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7988-89AC-4387-8A78-066D8616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B86-0B13-42EC-821C-A96D45A7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311-23C5-4A75-A553-227FA762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27F7-6DD7-4797-8FB4-B1EA5A2FA620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03F0-EF9A-4CB3-AE73-895CD90D673A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002D-B19C-4456-ADE7-67AB3AB8639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AB8B-E4C0-4FF4-8E1E-E1F6765F8BE7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3033-8586-4B44-89BB-61409C4F4CE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ECEF-556A-493E-8A04-E277BDECA14C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D519-DB0B-4961-875C-05BD0EE5869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8E84-9E90-4713-8EBD-DAB37E038AF0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ad84c6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Стратегический анализ внешней среды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ad84c6"/>
                </a:solidFill>
                <a:uFillTx/>
                <a:latin typeface="Trebuchet MS"/>
              </a:rPr>
              <a:t>Конкурентный 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то исследование структуры отрасли, оценка конкурентной позиции отдельных СБЕ дает возможность фирме выбрать оптимальную деловую стратегию, ориентированную на создание долгосрочных конкурентных преимущест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ad84c6"/>
                </a:solidFill>
                <a:latin typeface="Trebuchet MS"/>
              </a:rPr>
              <a:t>Модель пяти конкурентных сил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pic>
        <p:nvPicPr>
          <p:cNvPr id="247" name="Рисунок 3" descr="Q:\Инна\В Г У Э С\Лекции\Стратегический менеджмент - бакалавры\media\image3.jpeg"/>
          <p:cNvPicPr/>
          <p:nvPr/>
        </p:nvPicPr>
        <p:blipFill>
          <a:blip r:embed="rId1"/>
          <a:stretch/>
        </p:blipFill>
        <p:spPr>
          <a:xfrm>
            <a:off x="324000" y="1700280"/>
            <a:ext cx="7929360" cy="4929120"/>
          </a:xfrm>
          <a:prstGeom prst="rect">
            <a:avLst/>
          </a:prstGeom>
          <a:ln w="0">
            <a:noFill/>
          </a:ln>
        </p:spPr>
      </p:pic>
      <p:sp>
        <p:nvSpPr>
          <p:cNvPr id="24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Отраслевая конкуренция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71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соперничество среди основных конкурентов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Рисунок 3" descr="Q:\Инна\В Г У Э С\Лекции\Стратегический менеджмент - бакалавры\media\image4.jpeg"/>
          <p:cNvPicPr/>
          <p:nvPr/>
        </p:nvPicPr>
        <p:blipFill>
          <a:blip r:embed="rId1"/>
          <a:stretch/>
        </p:blipFill>
        <p:spPr>
          <a:xfrm>
            <a:off x="179280" y="2133720"/>
            <a:ext cx="7858080" cy="3714480"/>
          </a:xfrm>
          <a:prstGeom prst="rect">
            <a:avLst/>
          </a:prstGeom>
          <a:ln w="0">
            <a:noFill/>
          </a:ln>
        </p:spPr>
      </p:pic>
      <p:sp>
        <p:nvSpPr>
          <p:cNvPr id="252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Отраслевой 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экономических характеристик отраслевого окруж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а степени конкурен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явление движущих сил конкурен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ключевых факторов успех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ключение о степени привлекательности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ad84c6"/>
                </a:solidFill>
                <a:latin typeface="Trebuchet MS"/>
              </a:rPr>
              <a:t>Ключевые факторы успеха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общие для всех предприя­тий отрасли управляемые переменные, реализация которых дает возможность улучшить конкурентные позиции предприятия в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ИОКР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о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нансы и т.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Характеристика и цели анализа внешней сред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WOT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урентный 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раслевой 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ифирменная диагности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ое назначение анализа внешней среды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выявить и уяснить возможности и угрозы, которые могут возникнуть для предприятия в будущем, с тем чтобы правильно определить стратегию и общую политику предприят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По степени воздействия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 процессы, протекающие в рамках предприятия, выделяют две группы внешних факторов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даленного воздействия, представляющих макросферу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посредственного влияния ближнего окружения, или отраслевые фактор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ad84c6"/>
                </a:solidFill>
                <a:uFillTx/>
                <a:latin typeface="Trebuchet MS"/>
              </a:rPr>
              <a:t>РЕ</a:t>
            </a:r>
            <a:r>
              <a:rPr b="1" lang="en-US" sz="3200" spc="-1" strike="noStrike" u="sng">
                <a:solidFill>
                  <a:srgbClr val="ad84c6"/>
                </a:solidFill>
                <a:uFillTx/>
                <a:latin typeface="Trebuchet MS"/>
              </a:rPr>
              <a:t>S</a:t>
            </a:r>
            <a:r>
              <a:rPr b="1" lang="ru-RU" sz="3200" spc="-1" strike="noStrike" u="sng">
                <a:solidFill>
                  <a:srgbClr val="ad84c6"/>
                </a:solidFill>
                <a:uFillTx/>
                <a:latin typeface="Trebuchet MS"/>
              </a:rPr>
              <a:t>Т-анализ</a:t>
            </a: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оит в выявлении и оценке влияния факторов макросреды на результаты текущей и будущей деятельности предприят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Цель РЕ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Т-анализ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отслеживание (мониторинг) изменений макросреды по четырем узловым направлениям и выявление тенденций, событий, не подконтрольных предприятию, но оказывающих влияние на результаты принятых стратегических решен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571680" y="1165320"/>
          <a:ext cx="8072280" cy="5335560"/>
        </p:xfrm>
        <a:graphic>
          <a:graphicData uri="http://schemas.openxmlformats.org/drawingml/2006/table">
            <a:tbl>
              <a:tblPr/>
              <a:tblGrid>
                <a:gridCol w="4035240"/>
                <a:gridCol w="4037040"/>
              </a:tblGrid>
              <a:tr h="280800"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51040"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авительственная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стабиль­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зменение законодатель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Государственное влияние на отрасли, включая долю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госсоб­ствен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Государственное регулирова­ние конкуренции в отрас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Налоговая поли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бщая характеристика эконо­мической ситуации (подъем, стабилизация, спад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Курс национальной валюты 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рефинанс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инфля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ровен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безработиц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Цены на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энергоресурс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2560"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Демографические измен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зменение структуры доход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ношение к труду и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тдых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циальная мобильност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насе­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Активность потребите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.Государственная техническая,  поли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2. Значимые тенденц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ОК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овые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родукты (скорость об­новления и освоения новых тех­нолог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Новые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атент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ad84c6"/>
                </a:solidFill>
                <a:uFillTx/>
                <a:latin typeface="Trebuchet MS"/>
              </a:rPr>
              <a:t>SWOT</a:t>
            </a:r>
            <a:r>
              <a:rPr b="0" lang="ru-RU" sz="3600" spc="-1" strike="noStrike" u="sng">
                <a:solidFill>
                  <a:srgbClr val="ad84c6"/>
                </a:solidFill>
                <a:uFillTx/>
                <a:latin typeface="Trebuchet MS"/>
              </a:rPr>
              <a:t>-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действенный инструмент оценки стратегического состояния организации на основе понимания ее внутренних сильных и слабых сторон и внешней среды, которая представляется в виде возможностей и угроз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ает обобщенную оценку организационной среды, имеющую преимущественно качественный характер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ильные стороны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это то, в чем она преуспела, ее от­личительные особенности, которые усиливают конкурентоспособность и дают фирме преимущества на рынке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лабые стороны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связаны в основном с отсутствием чего-то важного для функционирования фирмы или с тем, что у нее получается хуже в сравнении с прямыми конкурентам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Возмож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ужно рассматривать прежде всего с точки зрения рыночной привлекательности, которая может обеспечить максимальный рост прибыли фирмы и конкурентное преимущество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Угроз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(опас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) — это определенные факторы внешней среды, которые могут отрицательно повлиять на благосостояние фирмы и препятствовать ее успешному развити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Q:\Инна\В Г У Э С\Лекции\Стратегический менеджмент - бакалавры\media\image1.jpeg"/>
          <p:cNvPicPr/>
          <p:nvPr/>
        </p:nvPicPr>
        <p:blipFill>
          <a:blip r:embed="rId1"/>
          <a:stretch/>
        </p:blipFill>
        <p:spPr>
          <a:xfrm>
            <a:off x="646200" y="281160"/>
            <a:ext cx="6218280" cy="631476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ad84c6"/>
                </a:solidFill>
                <a:latin typeface="Trebuchet MS"/>
              </a:rPr>
              <a:t>Матрица «вероятность усиления — интенсивность воздействия»</a:t>
            </a:r>
            <a:endParaRPr b="0" lang="en-US" sz="2900" spc="-1" strike="noStrike">
              <a:solidFill>
                <a:srgbClr val="ad84c6"/>
              </a:solidFill>
              <a:latin typeface="Trebuchet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00040" y="2071800"/>
          <a:ext cx="8072640" cy="4066920"/>
        </p:xfrm>
        <a:graphic>
          <a:graphicData uri="http://schemas.openxmlformats.org/drawingml/2006/table">
            <a:tbl>
              <a:tblPr/>
              <a:tblGrid>
                <a:gridCol w="2017800"/>
                <a:gridCol w="2019240"/>
                <a:gridCol w="2017800"/>
                <a:gridCol w="2017800"/>
              </a:tblGrid>
              <a:tr h="305280">
                <a:tc rowSpan="2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832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96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r>
                        <a:rPr b="0" i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2:14:18Z</dcterms:created>
  <dc:creator>И.В.</dc:creator>
  <dc:description/>
  <dc:language>en-US</dc:language>
  <cp:lastModifiedBy>Толя</cp:lastModifiedBy>
  <dcterms:modified xsi:type="dcterms:W3CDTF">2014-12-01T07:05:45Z</dcterms:modified>
  <cp:revision>9</cp:revision>
  <dc:subject/>
  <dc:title>Theme 6</dc:title>
</cp:coreProperties>
</file>